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E10-008A-466B-9F05-2D99A165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A3C-EA53-4C61-9AAA-404A031F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85A-6468-49E0-8B42-F61A4426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FF9-BE3F-4A38-91BF-0A6D63C7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8888-6289-41D4-8D2A-3D8B1886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FDE3-FEEA-4C70-B4E2-45DD3623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56C9-BF1F-415A-9124-9CFDB7F2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4DBA-B6EE-4E7D-991F-125934DA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EA41-1C02-4FA3-B34A-9ECEB8EF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C62B-38D0-4804-A608-BA73E373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E3D4-5DA3-4E35-AD26-D30F98FB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F5C-7CF3-468B-9CD6-DE1854AA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9BF7-7C5F-45ED-B5B0-D40C0B8E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3C49-4A6E-42AA-B24C-33AF3D34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524F-70B3-4FC0-B6FB-64A4F161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1468-4F6A-4438-A6F5-E85D13F8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9FF7-ED31-4376-84DF-2575D28C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372-DF24-4423-ABFE-31F9383C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52F-08AB-479A-92D0-5D2973AB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078-F9F1-46EC-8E46-CA14469E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56E-9CE8-4DD3-94F7-3F19B6CE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F8E-ECDA-4FED-AA47-591303C5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672-4324-467D-AE0B-B616F3F6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4EA-1057-40C9-816E-3AC7F011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5425-E628-4F6C-93EC-D1AEF981B0BB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9684-3E95-44BC-989C-A459E1AD17F1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4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endParaRPr b="1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924680" cy="4748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737560" y="7467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endParaRPr b="1" lang="en-US" sz="27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2286000" y="3276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748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puerquit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486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O vengan amigos, vengan amigos, vengan amigos, vengan</a:t>
            </a:r>
            <a:endParaRPr b="1" lang="en-US" sz="4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08680" y="4343400"/>
            <a:ext cx="2335320" cy="2054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1752480" cy="1101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236232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12920" cy="136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038480" y="5181480"/>
            <a:ext cx="1447920" cy="1384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1600200" cy="1287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990720" y="5181480"/>
            <a:ext cx="1752480" cy="1235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5486400" y="3200400"/>
            <a:ext cx="1573200" cy="1676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48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2133720" y="281952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endParaRPr b="1" lang="en-US" sz="27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2286000" y="3276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748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burrit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743200" y="1828800"/>
            <a:ext cx="3798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O vengan amigos, vengan amigos, vengan amigos, vengan</a:t>
            </a:r>
            <a:endParaRPr b="1" lang="en-US" sz="4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08680" y="4343400"/>
            <a:ext cx="2335320" cy="2054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1752480" cy="1101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236232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12920" cy="136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4038480" y="5181480"/>
            <a:ext cx="1447920" cy="138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1600200" cy="1287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990720" y="5181480"/>
            <a:ext cx="1752480" cy="1235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5486400" y="3200400"/>
            <a:ext cx="1573200" cy="1676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2133720" y="281952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endParaRPr b="1" lang="en-US" sz="27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2286000" y="3276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748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gallit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Qui-qui-ri-qui”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48120" y="1905120"/>
            <a:ext cx="414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O vengan amigos, vengan amigos, vengan amigos, vengan</a:t>
            </a:r>
            <a:endParaRPr b="1" lang="en-US" sz="4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808680" y="4343400"/>
            <a:ext cx="2335320" cy="2054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1752480" cy="1101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236232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12920" cy="1365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038480" y="5181480"/>
            <a:ext cx="1447920" cy="1384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1600200" cy="1287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990720" y="5181480"/>
            <a:ext cx="1752480" cy="1235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5486400" y="3200400"/>
            <a:ext cx="1573200" cy="1676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048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2133720" y="281952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8610480" cy="2209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endParaRPr b="1" lang="en-US" sz="27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2286000" y="3276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748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patit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uac Cuac”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373392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perrit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Gua Gua”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438280" y="3352680"/>
            <a:ext cx="403884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O vengan amigos, vengan amigos, vengan amigos, vengan</a:t>
            </a:r>
            <a:endParaRPr b="1" lang="en-US" sz="4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808680" y="4343400"/>
            <a:ext cx="2335320" cy="2054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1752480" cy="11016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236232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12920" cy="1365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038480" y="5181480"/>
            <a:ext cx="1447920" cy="1384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1600200" cy="1287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990720" y="5181480"/>
            <a:ext cx="1752480" cy="1235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5486400" y="3200400"/>
            <a:ext cx="1573200" cy="1676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48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2133720" y="281952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endParaRPr b="1" lang="en-US" sz="27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2286000" y="3276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09480" y="2109960"/>
            <a:ext cx="7925040" cy="47480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gatit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Miau”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590920" y="2895480"/>
            <a:ext cx="39402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O vengan amigos, vengan amigos, vengan amigos, vengan</a:t>
            </a:r>
            <a:endParaRPr b="1" lang="en-US" sz="4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808680" y="4343400"/>
            <a:ext cx="233532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1752480" cy="11016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236232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12920" cy="1365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4038480" y="5181480"/>
            <a:ext cx="1447920" cy="1384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1600200" cy="1287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990720" y="5181480"/>
            <a:ext cx="1752480" cy="1235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5486400" y="3200400"/>
            <a:ext cx="1573200" cy="1676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048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2133720" y="281952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FIN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O vengan amigos, vengan amigos, vengan amigos, vengan</a:t>
            </a:r>
            <a:endParaRPr b="1" lang="en-US" sz="4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08680" y="4343400"/>
            <a:ext cx="2335320" cy="2054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1752480" cy="1101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236232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12920" cy="13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038480" y="5181480"/>
            <a:ext cx="1447920" cy="1384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1600200" cy="1287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990720" y="5181480"/>
            <a:ext cx="1752480" cy="1235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5486400" y="3200400"/>
            <a:ext cx="1573200" cy="167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8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2133720" y="281952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endParaRPr b="1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748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l pollito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Pío Pío”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34290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O vengan amigos, vengan amigos, vengan amigos, vengan</a:t>
            </a:r>
            <a:endParaRPr b="1" lang="en-US" sz="4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08680" y="4343400"/>
            <a:ext cx="2335320" cy="2054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1752480" cy="1101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236232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12920" cy="13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038480" y="5181480"/>
            <a:ext cx="1447920" cy="138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1600200" cy="128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990720" y="5181480"/>
            <a:ext cx="1752480" cy="1235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486400" y="3200400"/>
            <a:ext cx="1573200" cy="1676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8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2133720" y="281952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Vengan a ver mi granja que es hermosa</a:t>
            </a:r>
            <a:endParaRPr b="1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748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a vaquit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Muuu”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76520" y="2666880"/>
            <a:ext cx="586728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Verdana"/>
              </a:rPr>
              <a:t>O vengan amigos, vengan amigos, vengan amigos, vengan</a:t>
            </a:r>
            <a:endParaRPr b="1" lang="en-US" sz="4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08680" y="4343400"/>
            <a:ext cx="2335320" cy="2054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1752480" cy="11016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2362320" cy="990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2212920" cy="13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038480" y="5181480"/>
            <a:ext cx="1447920" cy="138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1600200" cy="128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990720" y="5181480"/>
            <a:ext cx="1752480" cy="1235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5486400" y="3200400"/>
            <a:ext cx="1573200" cy="1676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8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2133720" y="2819520"/>
            <a:ext cx="200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tem User</cp:lastModifiedBy>
  <dcterms:modified xsi:type="dcterms:W3CDTF">2011-05-02T21:38:24Z</dcterms:modified>
  <cp:revision>26</cp:revision>
  <dc:subject/>
  <dc:title>La vaca</dc:title>
</cp:coreProperties>
</file>